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C06B-578C-44A6-9C63-CAF33F2C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B0D3-C26C-46E6-9431-60FAD5CF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1363-3107-48BC-B77C-5C79A63B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C790-8B03-499B-9F14-8F632AC5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FC3A-C701-40EB-80A1-2306DD48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D08D-11FD-4F58-BB89-1DC1AF4C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468C-A74A-4E06-B9EF-3057A279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B8B0-D946-4949-A9C9-2A025AF8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ADB4-9FA2-49B9-8130-7DF27883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9A82-3D22-41CA-B5E0-505DF0CF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E47C-D107-4917-83DC-C6F9F810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C264-49F5-40F6-B540-FB666935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9143-D88F-4B85-AE0F-CB620FA8C296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DB2C-6281-48A3-84D4-C6A6EAF6C20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ttangolo 10"/>
          <p:cNvSpPr/>
          <p:nvPr/>
        </p:nvSpPr>
        <p:spPr>
          <a:xfrm>
            <a:off x="428760" y="2286000"/>
            <a:ext cx="8215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roduttor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iniziali di rifiut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ericolos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&gt; 50 dipendent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(compresi quelli di cui all’art. 212 c. 8 del Dlgs 152/200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mprese e ent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roduttor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niziali di rifiut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non pericolos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a lavorazione industriali, artigianali, da recupero e smaltimento rifiuti, fanghi …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(Art. 184 c. 3 lett. c, d e g)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&gt; 50 dipenden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Commercianti, intermedia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Consorz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stituiti per il recupero e il riciclaggio di particolari tipologie di rifiu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mprese che raccolgono e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trasportano rifiuti special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(art. 212 c. 5 del Dlgs 152/200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mprese e enti che effettuano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operazioni di recupero e smalti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omuni e gli Enti e le imprese che gestiscono i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rifiuti urban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nel territorio della Regione  Camp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114300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70c0"/>
                </a:solidFill>
                <a:latin typeface="Calibri"/>
                <a:ea typeface="Calibri"/>
              </a:rPr>
              <a:t>Iscrizione SISTRI: Soggetti obblig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0" y="1714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Calibri"/>
                <a:ea typeface="Calibri"/>
              </a:rPr>
              <a:t>        </a:t>
            </a:r>
            <a:r>
              <a:rPr b="1" lang="it-IT" sz="2000" spc="-1" strike="noStrike" u="sng">
                <a:solidFill>
                  <a:srgbClr val="0070c0"/>
                </a:solidFill>
                <a:uFillTx/>
                <a:latin typeface="Calibri"/>
                <a:ea typeface="Calibri"/>
              </a:rPr>
              <a:t>Primo gruppo (entro il 30 marzo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egnaposto numero diapositiva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7156-4439-447B-AD7D-96D59AF14CC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3786120" cy="630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2"/>
          <a:stretch/>
        </p:blipFill>
        <p:spPr>
          <a:xfrm>
            <a:off x="6215040" y="214200"/>
            <a:ext cx="2428920" cy="614520"/>
          </a:xfrm>
          <a:prstGeom prst="rect">
            <a:avLst/>
          </a:prstGeom>
          <a:ln w="0">
            <a:noFill/>
          </a:ln>
        </p:spPr>
      </p:pic>
      <p:sp>
        <p:nvSpPr>
          <p:cNvPr id="47" name="Connettore 1 11"/>
          <p:cNvSpPr/>
          <p:nvPr/>
        </p:nvSpPr>
        <p:spPr>
          <a:xfrm>
            <a:off x="0" y="1000080"/>
            <a:ext cx="914400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asellaDiTesto 9"/>
          <p:cNvSpPr/>
          <p:nvPr/>
        </p:nvSpPr>
        <p:spPr>
          <a:xfrm>
            <a:off x="7077960" y="628668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gue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1714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Calibri"/>
                <a:ea typeface="Calibri"/>
              </a:rPr>
              <a:t>        </a:t>
            </a:r>
            <a:r>
              <a:rPr b="1" lang="it-IT" sz="2000" spc="-1" strike="noStrike" u="sng">
                <a:solidFill>
                  <a:srgbClr val="0070c0"/>
                </a:solidFill>
                <a:uFillTx/>
                <a:latin typeface="Calibri"/>
                <a:ea typeface="Calibri"/>
              </a:rPr>
              <a:t>Primo gruppo (entro il 30 marzo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ttangolo 7"/>
          <p:cNvGrpSpPr/>
          <p:nvPr/>
        </p:nvGrpSpPr>
        <p:grpSpPr>
          <a:xfrm>
            <a:off x="493560" y="2352600"/>
            <a:ext cx="7944120" cy="4322880"/>
            <a:chOff x="493560" y="2352600"/>
            <a:chExt cx="7944120" cy="4322880"/>
          </a:xfrm>
        </p:grpSpPr>
        <p:pic>
          <p:nvPicPr>
            <p:cNvPr id="51" name="Rettangolo 7" descr=""/>
            <p:cNvPicPr/>
            <p:nvPr/>
          </p:nvPicPr>
          <p:blipFill>
            <a:blip r:embed="rId1"/>
            <a:stretch/>
          </p:blipFill>
          <p:spPr>
            <a:xfrm>
              <a:off x="493560" y="2352600"/>
              <a:ext cx="7944120" cy="43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00040" y="2357280"/>
              <a:ext cx="7929720" cy="42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4600" indent="-1746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n caso d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rasporto marittimo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, il terminalista concessionario dell’area portuale di cui all’art. 18 della Legge 28 gennaio 1994, n. 84 e l’impresa portuale di cui all’art. 16 della citata Legge n. 84 del 1994, ai quali sono affidati i rifiuti in attesa di imbarco o allo sbarco, in attesa del successivo trasporto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n caso di trasporto ferroviario, i responsabili degli uffici di gestione merci e gli operatori logistici presso le stazioni ferroviarie, gli interporti, gli impianti di terminalizzazione e gli scali merci ai quali sono affidati i rifiuti in attesa della presa in carico degli stessi da parte dell’impresa ferroviaria o dell’impresa che effettua il successivo trasport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Segnaposto numero diapositiv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3713-24DA-4228-A11F-AFC60259F84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28760" y="1214280"/>
            <a:ext cx="8358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70c0"/>
                </a:solidFill>
                <a:latin typeface="Calibri"/>
                <a:ea typeface="Calibri"/>
              </a:rPr>
              <a:t>Iscrizione SISTRI: Soggetti obblig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357120" y="214200"/>
            <a:ext cx="3786120" cy="63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6215040" y="214200"/>
            <a:ext cx="2428920" cy="614520"/>
          </a:xfrm>
          <a:prstGeom prst="rect">
            <a:avLst/>
          </a:prstGeom>
          <a:ln w="0">
            <a:noFill/>
          </a:ln>
        </p:spPr>
      </p:pic>
      <p:sp>
        <p:nvSpPr>
          <p:cNvPr id="57" name="Connettore 1 12"/>
          <p:cNvSpPr/>
          <p:nvPr/>
        </p:nvSpPr>
        <p:spPr>
          <a:xfrm>
            <a:off x="0" y="1000080"/>
            <a:ext cx="914400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1714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Calibri"/>
                <a:ea typeface="Calibri"/>
              </a:rPr>
              <a:t>        </a:t>
            </a:r>
            <a:r>
              <a:rPr b="1" lang="it-IT" sz="2000" spc="-1" strike="noStrike" u="sng">
                <a:solidFill>
                  <a:srgbClr val="0070c0"/>
                </a:solidFill>
                <a:uFillTx/>
                <a:latin typeface="Calibri"/>
                <a:ea typeface="Calibri"/>
              </a:rPr>
              <a:t>Primo gruppo (entro il 30 marzo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Rettangolo 7"/>
          <p:cNvGrpSpPr/>
          <p:nvPr/>
        </p:nvGrpSpPr>
        <p:grpSpPr>
          <a:xfrm>
            <a:off x="493560" y="2779560"/>
            <a:ext cx="7944120" cy="2687760"/>
            <a:chOff x="493560" y="2779560"/>
            <a:chExt cx="7944120" cy="2687760"/>
          </a:xfrm>
        </p:grpSpPr>
        <p:pic>
          <p:nvPicPr>
            <p:cNvPr id="60" name="Rettangolo 7" descr=""/>
            <p:cNvPicPr/>
            <p:nvPr/>
          </p:nvPicPr>
          <p:blipFill>
            <a:blip r:embed="rId1"/>
            <a:stretch/>
          </p:blipFill>
          <p:spPr>
            <a:xfrm>
              <a:off x="493560" y="2779560"/>
              <a:ext cx="7944120" cy="268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00040" y="2786040"/>
              <a:ext cx="79297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roduttori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iniziali di rifiut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ericolosi </a:t>
              </a:r>
              <a:r>
                <a:rPr b="0" lang="it-IT" sz="24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&lt; 50 dipendenti 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(compresi quelli di cui all’art. 212 c. 8 del Dlgs 152/200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mprese e ent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roduttori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iniziali di rifiut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on pericolosi 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da lavorazione industriali, artigianali, da recupero e smaltimento rifiuti, fangh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… (Art. 184 c. 3 lett. c, d e g)</a:t>
              </a:r>
              <a:r>
                <a:rPr b="0" lang="it-IT" sz="24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 da 11 a 50 dipendent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Segnaposto numero diapositiv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41CE-A6F6-46AF-8FF4-34A0B1A366F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128592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70c0"/>
                </a:solidFill>
                <a:latin typeface="Arial"/>
                <a:ea typeface="Calibri"/>
              </a:rPr>
              <a:t>Iscrizione SISTRI: </a:t>
            </a:r>
            <a:r>
              <a:rPr b="1" lang="it-IT" sz="3200" spc="-1" strike="noStrike">
                <a:solidFill>
                  <a:srgbClr val="0070c0"/>
                </a:solidFill>
                <a:latin typeface="Calibri"/>
                <a:ea typeface="Calibri"/>
              </a:rPr>
              <a:t>Soggetti obblig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Rectangle 2" descr=""/>
          <p:cNvPicPr/>
          <p:nvPr/>
        </p:nvPicPr>
        <p:blipFill>
          <a:blip r:embed="rId2"/>
          <a:stretch/>
        </p:blipFill>
        <p:spPr>
          <a:xfrm>
            <a:off x="-6480" y="1994040"/>
            <a:ext cx="9156960" cy="511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357120" y="214200"/>
            <a:ext cx="3786120" cy="630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4"/>
          <a:stretch/>
        </p:blipFill>
        <p:spPr>
          <a:xfrm>
            <a:off x="6215040" y="214200"/>
            <a:ext cx="2428920" cy="614520"/>
          </a:xfrm>
          <a:prstGeom prst="rect">
            <a:avLst/>
          </a:prstGeom>
          <a:ln w="0">
            <a:noFill/>
          </a:ln>
        </p:spPr>
      </p:pic>
      <p:sp>
        <p:nvSpPr>
          <p:cNvPr id="67" name="Connettore 1 12"/>
          <p:cNvSpPr/>
          <p:nvPr/>
        </p:nvSpPr>
        <p:spPr>
          <a:xfrm>
            <a:off x="0" y="1000080"/>
            <a:ext cx="914400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4:38:45Z</dcterms:created>
  <dc:creator>Roberta Scarinci</dc:creator>
  <dc:description/>
  <dc:language>en-US</dc:language>
  <cp:lastModifiedBy>Cristina Zani</cp:lastModifiedBy>
  <dcterms:modified xsi:type="dcterms:W3CDTF">2010-06-03T14:10:27Z</dcterms:modified>
  <cp:revision>191</cp:revision>
  <dc:subject/>
  <dc:title>SISTRI</dc:title>
</cp:coreProperties>
</file>